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9A12C-4C66-4A11-A104-529EC03C5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E8697-4526-4CC2-9551-8A126193C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80FDE-302D-44D5-BE7E-15A8E3B4F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55634-53BC-4096-A6FE-B781AC049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5FF50-DBD9-4749-85BC-C7AE29D90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FD020-695F-48CB-92B4-0E98F49A4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70F7A-E268-424B-9B45-FC758294C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5D420-D569-426F-B5CC-0A57671FC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3AEE4-000C-4D6E-81C9-08B2A393E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0C496-B161-4284-AEE1-A52FD9EBC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D39A9-58EB-4771-BD63-D5F945B19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ACEAE-0C24-4799-8A65-A48E5D1FD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DB641-2CF3-4569-AE59-32C20343D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D334D-0A0D-4E23-8042-B21F6DE78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84F84-207A-4C59-AA8E-F391E73D3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C677A-9780-44E8-AC15-4525D7057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295F0-8FE2-4A86-A880-331453AEF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A270FC-EBF8-4FB7-80B6-6D48514B66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614928-64BC-4FC7-93E6-4448B4725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2FED00-7148-48BF-AFFB-A27C8F31EC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F4C117-CF20-4EE0-B518-3C822E958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83342-4242-4A86-8EE0-A194A6F3A6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5FF7D-9B46-48DC-8509-E6590CD11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13290-04CF-475C-BC02-FFEB5A08DC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18179F-401F-483F-9320-5AE41E565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1D2C7-972D-4995-928B-D4655EC22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917B4-0F42-4E50-A5A9-F74F9F8DD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E08FA0-432C-4DA0-BF97-B1FA992F3D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1B4C87-4681-4196-8DA0-ED8EF32D48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5CA4CF-00CC-4BE8-99D1-CF7798595C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E6E4A-2C9A-40DB-8F42-76D0D4B12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139F4-0909-4254-A8A0-E6FE25EC3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50593-967B-4D4D-93BE-94F084517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1914C-EB2F-4F86-919C-EA2FE984F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3D013-D569-47C2-B237-A5DE0ABD9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E7F47-F267-4CA8-B21F-7E1A6B588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C7E4-2EF3-49A8-9997-CC9E38BAD4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8F97-3755-4E1C-AD44-0BFF5638F1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80D5-860E-4FA1-9420-60022EFE30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it of a history</a:t>
            </a:r>
            <a:endParaRPr b="0" lang="en-US" sz="3200" spc="-1" strike="noStrike">
              <a:solidFill>
                <a:srgbClr val="ffffff"/>
              </a:solidFill>
              <a:latin typeface="Arial"/>
            </a:endParaRPr>
          </a:p>
        </p:txBody>
      </p:sp>
      <p:sp>
        <p:nvSpPr>
          <p:cNvPr id="143"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World Assembly of Public Relations Associations, held in Mexico City in August 1978</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defined the practice of public relations as "the art and social science of analyzing trends, predicting their consequences, counseling organizational leaders, and implementing planned programs of action, which will serve both the organization and the public intere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Hearing vs. Listening</a:t>
            </a:r>
            <a:br>
              <a:rPr sz="2800"/>
            </a:br>
            <a:endParaRPr b="0" lang="en-US" sz="2800" spc="-1" strike="noStrike">
              <a:solidFill>
                <a:srgbClr val="ffffff"/>
              </a:solidFill>
              <a:latin typeface="Arial"/>
            </a:endParaRPr>
          </a:p>
        </p:txBody>
      </p:sp>
      <p:pic>
        <p:nvPicPr>
          <p:cNvPr id="145" name="Rectangle 3" descr=""/>
          <p:cNvPicPr/>
          <p:nvPr/>
        </p:nvPicPr>
        <p:blipFill>
          <a:blip r:embed="rId1"/>
          <a:stretch/>
        </p:blipFill>
        <p:spPr>
          <a:xfrm>
            <a:off x="0" y="990720"/>
            <a:ext cx="8991720" cy="4495680"/>
          </a:xfrm>
          <a:prstGeom prst="rect">
            <a:avLst/>
          </a:prstGeom>
          <a:ln w="0">
            <a:noFill/>
          </a:ln>
        </p:spPr>
      </p:pic>
      <p:sp>
        <p:nvSpPr>
          <p:cNvPr id="146" name=""/>
          <p:cNvSpPr/>
          <p:nvPr/>
        </p:nvSpPr>
        <p:spPr>
          <a:xfrm>
            <a:off x="914400" y="5334120"/>
            <a:ext cx="685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re is a reason why we have two ears and one mouth – we must listen twice as much as we spea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ertising is Synergy</a:t>
            </a:r>
            <a:endParaRPr b="0" lang="en-US" sz="3200" spc="-1" strike="noStrike">
              <a:solidFill>
                <a:srgbClr val="ffffff"/>
              </a:solidFill>
              <a:latin typeface="Arial"/>
            </a:endParaRPr>
          </a:p>
        </p:txBody>
      </p:sp>
      <p:pic>
        <p:nvPicPr>
          <p:cNvPr id="148" name="Rectangle 3" descr=""/>
          <p:cNvPicPr/>
          <p:nvPr/>
        </p:nvPicPr>
        <p:blipFill>
          <a:blip r:embed="rId1"/>
          <a:stretch/>
        </p:blipFill>
        <p:spPr>
          <a:xfrm>
            <a:off x="609480" y="1219320"/>
            <a:ext cx="8077320" cy="533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Public Relations Functions</a:t>
            </a:r>
            <a:br>
              <a:rPr sz="2800"/>
            </a:br>
            <a:endParaRPr b="0" lang="en-US" sz="2800" spc="-1" strike="noStrike">
              <a:solidFill>
                <a:srgbClr val="ffffff"/>
              </a:solidFill>
              <a:latin typeface="Arial"/>
            </a:endParaRPr>
          </a:p>
        </p:txBody>
      </p:sp>
      <p:sp>
        <p:nvSpPr>
          <p:cNvPr id="150"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nables organizations to build and mainta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ough an understanding of audience, attitudes, opinions and valu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anned, deliberate and two-w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cience of organ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verseer of brand/reput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hip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Public Relations Functions</a:t>
            </a:r>
            <a:br>
              <a:rPr sz="2800"/>
            </a:br>
            <a:endParaRPr b="0" lang="en-US" sz="2800" spc="-1" strike="noStrike">
              <a:solidFill>
                <a:srgbClr val="ffffff"/>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o interpret the client to the public, which means promoting the cli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interpret the public to the client, which means operating the company in such a way as to gain the approval of the publ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act as a public servi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promote new ideas and progr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build a public consc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 Counselors</a:t>
            </a:r>
            <a:endParaRPr b="0" lang="en-US" sz="3200" spc="-1" strike="noStrike">
              <a:solidFill>
                <a:srgbClr val="ffffff"/>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 Counselors must poss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mmunication skil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pertise in dealing with the news med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nowledge of mass commun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ynamics of public opin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s of persuas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yal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dg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ru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thic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eg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 Counselors</a:t>
            </a:r>
            <a:endParaRPr b="0" lang="en-US" sz="3200" spc="-1" strike="noStrike">
              <a:solidFill>
                <a:srgbClr val="ffffff"/>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public relations specialist is an image shaper. His job is to generate positive publicity for his client and enhance their reput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lient can be a company, an individual or a government. In the government PR people are called press secreta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keep the public informed about the activity of government agencies, explain policy, and manage political campaig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 Counselors</a:t>
            </a:r>
            <a:endParaRPr b="0" lang="en-US" sz="3200" spc="-1" strike="noStrike">
              <a:solidFill>
                <a:srgbClr val="ffffff"/>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relations specialists handle organizational functions such as: media, community, consumer, industry, and governmental relations; political campaigns; interest-group representation; conflict mediation; and employee and investor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 Counselors</a:t>
            </a:r>
            <a:endParaRPr b="0" lang="en-US" sz="3200" spc="-1" strike="noStrike">
              <a:solidFill>
                <a:srgbClr val="ffff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do more than "tell the organization's story." They must understand the attitudes and concerns of community, consumer, employee, and public interest groups and establish and maintain cooperative relationships with them and with representatives from print and broadcast journalis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ity and public relations</a:t>
            </a:r>
            <a:endParaRPr b="0" lang="en-US" sz="3200" spc="-1" strike="noStrike">
              <a:solidFill>
                <a:srgbClr val="ffffff"/>
              </a:solidFill>
              <a:latin typeface="Arial"/>
            </a:endParaRPr>
          </a:p>
        </p:txBody>
      </p:sp>
      <p:sp>
        <p:nvSpPr>
          <p:cNvPr id="162" name="PlaceHolder 2"/>
          <p:cNvSpPr>
            <a:spLocks noGrp="1"/>
          </p:cNvSpPr>
          <p:nvPr>
            <p:ph/>
          </p:nvPr>
        </p:nvSpPr>
        <p:spPr>
          <a:xfrm>
            <a:off x="457200" y="1980720"/>
            <a:ext cx="4038480" cy="2057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ublicity is a one way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et.”</a:t>
            </a:r>
            <a:endParaRPr b="0" lang="en-US" sz="2800" spc="-1" strike="noStrike">
              <a:solidFill>
                <a:srgbClr val="000000"/>
              </a:solidFill>
              <a:latin typeface="Arial"/>
            </a:endParaRPr>
          </a:p>
        </p:txBody>
      </p:sp>
      <p:sp>
        <p:nvSpPr>
          <p:cNvPr id="163" name="PlaceHolder 3"/>
          <p:cNvSpPr>
            <a:spLocks noGrp="1"/>
          </p:cNvSpPr>
          <p:nvPr>
            <p:ph/>
          </p:nvPr>
        </p:nvSpPr>
        <p:spPr>
          <a:xfrm>
            <a:off x="4648320" y="1981080"/>
            <a:ext cx="403848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ublic relations is a two-way stree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
          <p:cNvSpPr/>
          <p:nvPr/>
        </p:nvSpPr>
        <p:spPr>
          <a:xfrm>
            <a:off x="2133720" y="1219320"/>
            <a:ext cx="495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ward L. Bernays, PR authority</a:t>
            </a:r>
            <a:endParaRPr b="0" lang="en-US" sz="2400" spc="-1" strike="noStrike">
              <a:solidFill>
                <a:srgbClr val="000000"/>
              </a:solidFill>
              <a:latin typeface="Arial"/>
            </a:endParaRPr>
          </a:p>
        </p:txBody>
      </p:sp>
      <p:sp>
        <p:nvSpPr>
          <p:cNvPr id="165" name=""/>
          <p:cNvSpPr/>
          <p:nvPr/>
        </p:nvSpPr>
        <p:spPr>
          <a:xfrm>
            <a:off x="3489480" y="5218200"/>
            <a:ext cx="21492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66" name=""/>
          <p:cNvSpPr/>
          <p:nvPr/>
        </p:nvSpPr>
        <p:spPr>
          <a:xfrm>
            <a:off x="1600200" y="3886200"/>
            <a:ext cx="6248520" cy="162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ly it is a management function that focuses on two-way communication and fostering of mutually beneficial relationships between an organization and its publ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Public Relations </a:t>
            </a:r>
            <a:endParaRPr b="0" lang="en-US" sz="3200" spc="-1" strike="noStrike">
              <a:solidFill>
                <a:srgbClr val="ffffff"/>
              </a:solidFill>
              <a:latin typeface="Arial"/>
            </a:endParaRPr>
          </a:p>
        </p:txBody>
      </p:sp>
      <p:graphicFrame>
        <p:nvGraphicFramePr>
          <p:cNvPr id="127"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r>
                        <a:rPr b="1" lang="sr-CS" sz="1400" spc="-1" strike="noStrike">
                          <a:solidFill>
                            <a:srgbClr val="000000"/>
                          </a:solidFill>
                          <a:latin typeface="Arial"/>
                        </a:rPr>
                        <a:t>. </a:t>
                      </a:r>
                      <a:r>
                        <a:rPr b="1" lang="en-GB" sz="1400" spc="-1" strike="noStrike">
                          <a:solidFill>
                            <a:srgbClr val="000000"/>
                          </a:solidFill>
                          <a:latin typeface="Arial"/>
                        </a:rPr>
                        <a:t>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ширење знања стручног енглеског језика из области менаџмента.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r>
                        <a:rPr b="0" lang="sr-CS" sz="1400" spc="-1" strike="noStrike">
                          <a:solidFill>
                            <a:srgbClr val="000000"/>
                          </a:solidFill>
                          <a:latin typeface="Arial"/>
                        </a:rPr>
                        <a:t>  </a:t>
                      </a:r>
                      <a:r>
                        <a:rPr b="0" lang="ru-RU" sz="1400" spc="-1" strike="noStrike">
                          <a:solidFill>
                            <a:srgbClr val="000000"/>
                          </a:solidFill>
                          <a:latin typeface="Arial"/>
                        </a:rPr>
                        <a:t>Public Relation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односа са јавношћу на енглеском јези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sentially it is a management function that focuses on two-way communication and fostering of mutually beneficial relationships between an organization and its publics. Modern public relations evaluate a product or individuals public perception through market research. Once data is collected and challenges are identified, solutions are presented in a campaign strategy to meet goals. Techniques may vary from campaign to campaign but some standard tools used are: press releases, press kits, satellite feeds, pod casts, web casts, wire service distribution of information and internet plac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 possibilities</a:t>
            </a:r>
            <a:endParaRPr b="0" lang="en-US" sz="3200" spc="-1" strike="noStrike">
              <a:solidFill>
                <a:srgbClr val="ffffff"/>
              </a:solidFill>
              <a:latin typeface="Arial"/>
            </a:endParaRPr>
          </a:p>
        </p:txBody>
      </p:sp>
      <p:sp>
        <p:nvSpPr>
          <p:cNvPr id="170" name="PlaceHolder 2"/>
          <p:cNvSpPr>
            <a:spLocks noGrp="1"/>
          </p:cNvSpPr>
          <p:nvPr>
            <p:ph/>
          </p:nvPr>
        </p:nvSpPr>
        <p:spPr>
          <a:xfrm>
            <a:off x="228600" y="1218960"/>
            <a:ext cx="8229600" cy="510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ritable ev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to opportunit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onsoring person, clu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the “best” in your fiel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solicited </a:t>
            </a:r>
            <a:r>
              <a:rPr b="0" i="1" lang="en-US" sz="2800" spc="-1" strike="noStrike">
                <a:solidFill>
                  <a:srgbClr val="000000"/>
                </a:solidFill>
                <a:latin typeface="Arial"/>
              </a:rPr>
              <a:t>positive </a:t>
            </a:r>
            <a:r>
              <a:rPr b="0" lang="en-US" sz="2800" spc="-1" strike="noStrike">
                <a:solidFill>
                  <a:srgbClr val="000000"/>
                </a:solidFill>
                <a:latin typeface="Arial"/>
              </a:rPr>
              <a:t>st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as of public relations</a:t>
            </a:r>
            <a:endParaRPr b="0" lang="en-US" sz="3200" spc="-1" strike="noStrike">
              <a:solidFill>
                <a:srgbClr val="ffffff"/>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are many areas of public relations, but the most recognized a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ublic relation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public rela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sis public rel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Relations and Marketing</a:t>
            </a:r>
            <a:endParaRPr b="0" lang="en-US" sz="3200" spc="-1" strike="noStrike">
              <a:solidFill>
                <a:srgbClr val="ffffff"/>
              </a:solidFill>
              <a:latin typeface="Arial"/>
            </a:endParaRPr>
          </a:p>
        </p:txBody>
      </p:sp>
      <p:sp>
        <p:nvSpPr>
          <p:cNvPr id="174"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alysis, planning, implementation, and control of carefully formulated programs based on consumer re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ncerned with programs and products…about what people want and ne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lations 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ncerned about im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orks to improve people’s opinions of programs or agen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sion </a:t>
            </a:r>
            <a:endParaRPr b="0" lang="en-US" sz="3200" spc="-1" strike="noStrike">
              <a:solidFill>
                <a:srgbClr val="ffffff"/>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day "Public Relations is a set of management, supervisory, and technical functions that foster an organization's ability to strategically listen to, appreciate, and respond to those persons whose mutually beneficial relationships with the organization are necessary if it is to achieve its missions and valu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the following questions:</a:t>
            </a:r>
            <a:br>
              <a:rPr sz="3200"/>
            </a:br>
            <a:endParaRPr b="0" lang="en-US" sz="32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PR?</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haracteristics of a good PR counselors?</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nd explain PR fun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Public Relations </a:t>
            </a:r>
            <a:endParaRPr b="0" lang="en-US" sz="32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r>
                        <a:rPr b="0" lang="sr-CS" sz="1400" spc="-1" strike="noStrike">
                          <a:solidFill>
                            <a:srgbClr val="000000"/>
                          </a:solidFill>
                          <a:latin typeface="Arial"/>
                        </a:rPr>
                        <a:t>  </a:t>
                      </a:r>
                      <a:r>
                        <a:rPr b="0" lang="ru-RU" sz="1400" spc="-1" strike="noStrike">
                          <a:solidFill>
                            <a:srgbClr val="000000"/>
                          </a:solidFill>
                          <a:latin typeface="Arial"/>
                        </a:rPr>
                        <a:t>Public Relation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односа са јавношћу на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PR?</a:t>
            </a:r>
            <a:endParaRPr b="0" lang="en-US" sz="3200" spc="-1" strike="noStrike">
              <a:solidFill>
                <a:srgbClr val="ffffff"/>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is is who we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we think about oursel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we want to 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we deserve your sup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public relations”?</a:t>
            </a:r>
            <a:br>
              <a:rPr sz="3200"/>
            </a:br>
            <a:endParaRPr b="0" lang="en-US" sz="3200" spc="-1" strike="noStrike">
              <a:solidFill>
                <a:srgbClr val="ffffff"/>
              </a:solidFill>
              <a:latin typeface="Arial"/>
            </a:endParaRPr>
          </a:p>
        </p:txBody>
      </p:sp>
      <p:sp>
        <p:nvSpPr>
          <p:cNvPr id="133" name="PlaceHolder 2"/>
          <p:cNvSpPr>
            <a:spLocks noGrp="1"/>
          </p:cNvSpPr>
          <p:nvPr>
            <p:ph/>
          </p:nvPr>
        </p:nvSpPr>
        <p:spPr>
          <a:xfrm>
            <a:off x="30492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rt and science of analyzing trends, predict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consequences, counseling organiz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 and implementing planned programs of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that will serve both the organization’s a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blic intere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World Assembly of Public Rela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s, Mexico City,197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public relations”?</a:t>
            </a:r>
            <a:br>
              <a:rPr sz="3200"/>
            </a:br>
            <a:endParaRPr b="0" lang="en-US" sz="3200" spc="-1" strike="noStrike">
              <a:solidFill>
                <a:srgbClr val="ff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lations (or PR) is a field concerned with maintaining public image for high-profile people, organizations, or program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lations (PR) concerns professions working in public message shaping for the functions of communication, community relations, crisis management, customer relations, employee relations, government affairs, industry relations, investor relations, media relations, mediation, publicity, speech-writing, and visitor rel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public relations”?</a:t>
            </a:r>
            <a:br>
              <a:rPr sz="3200"/>
            </a:br>
            <a:endParaRPr b="0" lang="en-US" sz="3200" spc="-1" strike="noStrike">
              <a:solidFill>
                <a:srgbClr val="ffffff"/>
              </a:solidFill>
              <a:latin typeface="Arial"/>
            </a:endParaRPr>
          </a:p>
        </p:txBody>
      </p:sp>
      <p:sp>
        <p:nvSpPr>
          <p:cNvPr id="137" name="PlaceHolder 2"/>
          <p:cNvSpPr>
            <a:spLocks noGrp="1"/>
          </p:cNvSpPr>
          <p:nvPr>
            <p:ph/>
          </p:nvPr>
        </p:nvSpPr>
        <p:spPr>
          <a:xfrm>
            <a:off x="457200" y="990360"/>
            <a:ext cx="8229600" cy="5715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ommunication is at the heart of our economy,</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and politic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os use it to promote their films.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ians use it to get electe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es use it to burnish their imag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s use it to promote social caus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field built on ideas and images, persuasion and information, strategy and tactic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olicy or product can succeed without a smart (strategic) message targeted to the right audience in creative and innovative ways at </a:t>
            </a:r>
            <a:r>
              <a:rPr b="0" i="1" lang="en-US" sz="2400" spc="-1" strike="noStrike">
                <a:solidFill>
                  <a:srgbClr val="000000"/>
                </a:solidFill>
                <a:latin typeface="Arial"/>
              </a:rPr>
              <a:t>the </a:t>
            </a:r>
            <a:r>
              <a:rPr b="0" lang="en-US" sz="2400" spc="-1" strike="noStrike">
                <a:solidFill>
                  <a:srgbClr val="000000"/>
                </a:solidFill>
                <a:latin typeface="Arial"/>
              </a:rPr>
              <a:t>ideal time using the proper channel.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communicate this way – to communicate strategically – is what Public Communication is all ab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public relations”?</a:t>
            </a:r>
            <a:endParaRPr b="0" lang="en-US" sz="32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blic Relations - PR is a specific form of communication and transferring messages to publi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one of the disciplines of Marketing, public relations is analyzing theoretical and practical aspects of communication using special techniques and metho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area lasts for  a few decades and presents one of the most valuable areas of resear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 can be defined as…</a:t>
            </a:r>
            <a:endParaRPr b="0" lang="en-US" sz="32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suasive communication designed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 specific publ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winning of public acceptance b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able performa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ing good and getting credit fo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3:08:5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